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43B6-DE9E-48AD-9B13-FF384254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7710-E6E5-47E1-AC30-EB99F084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0EAC-5AF5-4B23-A2FA-B0EC66AC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1B4-CE5D-4CB1-B488-118C942F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A94E-495F-40D7-842E-89B279D7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9BF-625A-4679-8FD0-011D4D73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DEF-456B-46E9-BA15-4145E6B7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F720-6859-4C39-9B9F-765EBEC6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565-34E3-47A1-B6E4-8F91D661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3428-F286-4E23-BAEE-1E430B6C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68D-B135-492C-A528-6B2A5B67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9D4-2857-4618-BD9B-EE2CD356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AD2F-9BEA-4A89-ACC9-E18DE7BA1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nstrative Adjec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/Cet/Cette/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7400" y="533520"/>
            <a:ext cx="4991040" cy="49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90600" y="1776240"/>
            <a:ext cx="4762800" cy="33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33440" y="1090440"/>
            <a:ext cx="4677120" cy="46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3992760" cy="42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38600" y="1090440"/>
            <a:ext cx="3466800" cy="46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53337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71600" y="1457280"/>
            <a:ext cx="64008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ld up the appropriate colored card with the correct demonstrative adjective. Slides will change every 5 second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133880" cy="41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29128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33440" y="1090440"/>
            <a:ext cx="4677120" cy="46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05040" y="1090440"/>
            <a:ext cx="5533920" cy="46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43040" y="1528920"/>
            <a:ext cx="4057920" cy="38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Pencil Clip Art"/>
          <p:cNvPicPr/>
          <p:nvPr/>
        </p:nvPicPr>
        <p:blipFill>
          <a:blip r:embed="rId1"/>
          <a:stretch/>
        </p:blipFill>
        <p:spPr>
          <a:xfrm>
            <a:off x="2971800" y="990720"/>
            <a:ext cx="333072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538960" cy="553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494352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27220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745160" cy="50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438800" cy="29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85880" y="1090440"/>
            <a:ext cx="3972240" cy="46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33440" y="1090440"/>
            <a:ext cx="4677120" cy="46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1285920"/>
            <a:ext cx="64008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6:19:19Z</dcterms:created>
  <dc:creator>asmith</dc:creator>
  <dc:description/>
  <dc:language>en-US</dc:language>
  <cp:lastModifiedBy>asmith</cp:lastModifiedBy>
  <dcterms:modified xsi:type="dcterms:W3CDTF">2012-01-20T20:43:02Z</dcterms:modified>
  <cp:revision>5</cp:revision>
  <dc:subject/>
  <dc:title>Demonstrative Adjectives </dc:title>
</cp:coreProperties>
</file>